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7820-E29D-4126-BA8C-CD9ECFA59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89D3-1C6A-4760-BCB5-944D8938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E3AA-E529-4414-9A12-F8EEB675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A6AF-A0CD-4B76-83E2-6333EAF68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91D9-903D-4688-BA32-5A2C2866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9D6F-01AD-4FBD-94B7-46BC91DE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FF41-CFE2-4D13-8A2F-05341F23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8A4E-34BF-4B94-BF5A-35AC2010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11AD-D908-4C64-9CBF-A8634A11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9302-716A-4276-B758-4EEF281E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7FD9-52DF-4470-8EF4-879FA3E7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6F19-201E-4CE2-B1E6-D7602B42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84CF-4164-43AB-80D7-A86A7775A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1800" y="1044720"/>
            <a:ext cx="565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Big Bad Pig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0" y="2057400"/>
            <a:ext cx="174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Riv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62320" y="327672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199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59280" y="2666880"/>
            <a:ext cx="3025440" cy="2387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952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010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544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8616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76160" y="2022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6724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57960" y="20224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9604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3412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24120" y="2022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214840" y="2022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943600" y="3809880"/>
            <a:ext cx="11541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055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438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912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8088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8144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1952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42640" y="2098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57960" y="20988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19360" y="209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4582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57800" y="2098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99588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57640" y="209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59608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3429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246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343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71840" y="2666880"/>
            <a:ext cx="4000320" cy="3429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224480" y="1946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215200" y="1946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52640" y="194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94920" y="19461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86360" y="19461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43760" y="19461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33760" y="19461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52680" y="1946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2438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2438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2438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2438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2438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2438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75960" y="2022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11120" y="2057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52880" y="202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24120" y="2022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14600" y="202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8656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49532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2286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0040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4120" y="2286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56840" y="18702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0056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66520" y="18702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33560" y="1870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0096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90960" y="1870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57640" y="1870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900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5562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666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2880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384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242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3432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012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04760" y="1717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90560" y="17175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38480" y="17175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23920" y="17175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86040" y="1717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71840" y="1717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58360" y="17175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81240" y="17175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52320" y="17175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257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1828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7652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1828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362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576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864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008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6000" y="1447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1800" y="1447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29880" y="1447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5448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6800" y="1371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5284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69080" y="137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66320" y="19461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96920" y="1981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95480" y="1946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09880" y="1946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15000" y="1946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00960" y="194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5154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60020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6232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2057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2057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5780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1992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38080" y="1641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76160" y="1641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61960" y="16416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47760" y="16416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10240" y="164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18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57440" y="1641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43960" y="16416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590920" y="2362320"/>
            <a:ext cx="3352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1T08:02:48Z</dcterms:created>
  <dc:creator>User</dc:creator>
  <dc:description/>
  <dc:language>en-US</dc:language>
  <cp:lastModifiedBy>Rutherford County Schools</cp:lastModifiedBy>
  <dcterms:modified xsi:type="dcterms:W3CDTF">2007-04-22T18:51:10Z</dcterms:modified>
  <cp:revision>8</cp:revision>
  <dc:subject/>
  <dc:title>No Slide Title</dc:title>
</cp:coreProperties>
</file>